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1E3-A5FC-45B5-821C-AF28F823A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B29-5B90-4F37-8410-06EE3065B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E53-143A-4339-A2E4-89B7D73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8AF-2565-4629-9AD7-68069291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4CA-9897-4915-AC7C-3DF5F4FF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7DC-8855-4D5D-BE9E-6D36B054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B31-9469-4235-A173-A4D7A93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171-1D0F-47A2-9517-0EAFE1B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899-21D2-4B14-89B0-E9A5EF24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C1A-2FEA-46F5-813E-376B6E06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32E-4463-43B1-B15F-B9D208F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B29-D0B5-43CE-8063-49057E3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621-9D0C-41C6-8F69-494E647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939-F12C-418E-A710-99E8C79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DBB-5371-4FC1-B903-CF7D70F11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second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09 Awakening.wma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8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1:53:37Z</dcterms:created>
  <dc:creator>john</dc:creator>
  <dc:description/>
  <dc:language>en-US</dc:language>
  <cp:lastModifiedBy>john</cp:lastModifiedBy>
  <dcterms:modified xsi:type="dcterms:W3CDTF">2010-01-17T22:55:45Z</dcterms:modified>
  <cp:revision>6</cp:revision>
  <dc:subject/>
  <dc:title>Slide 1</dc:title>
</cp:coreProperties>
</file>